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DDF3-AE57-4E4E-90A8-05B8A4DF4360}" type="datetime">
              <a:rPr b="0" lang="de-DE" sz="1200" spc="-1" strike="noStrike">
                <a:solidFill>
                  <a:srgbClr val="000000"/>
                </a:solidFill>
                <a:latin typeface="Gill Sans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1EBC-9C2D-40F2-8209-215FD0ADC7DE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0E5D-170E-4F37-9997-40F96E8B2E86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7A8EB-D913-4919-8884-468BDF1302F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CC176-E1C2-45D1-8237-F38F28832A0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AE0BD-484F-46A1-AD3D-F8A40894B45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A69FD-ADC7-4FC3-86C0-D5A28E1E9FA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AA449-3830-40FF-964E-8643502B65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FBCE1-A98D-4398-89E2-8459B149245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345B3-7280-4702-AD22-0CF4EA39F20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AAC52-981A-4E77-ACB0-B27BDCAB3EE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5631A-40B3-4FCE-98E6-A82DE6FEE0D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5021A-E51B-4291-BA08-ABEF809C237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97108-9515-4796-BF2F-45B8F125A4D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6CFF2-2500-4096-8430-DB8F9DE1971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hyperlink" Target="http://www.semantic-web-grundlagen.de/" TargetMode="External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hyperlink" Target="http://www.semantic-web-grundlagen.de/" TargetMode="Externa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21.xml"/><Relationship Id="rId9" Type="http://schemas.openxmlformats.org/officeDocument/2006/relationships/slideLayout" Target="../slideLayouts/slideLayout122.xml"/><Relationship Id="rId10" Type="http://schemas.openxmlformats.org/officeDocument/2006/relationships/slideLayout" Target="../slideLayouts/slideLayout123.xml"/><Relationship Id="rId11" Type="http://schemas.openxmlformats.org/officeDocument/2006/relationships/slideLayout" Target="../slideLayouts/slideLayout124.xml"/><Relationship Id="rId12" Type="http://schemas.openxmlformats.org/officeDocument/2006/relationships/slideLayout" Target="../slideLayouts/slideLayout125.xml"/><Relationship Id="rId13" Type="http://schemas.openxmlformats.org/officeDocument/2006/relationships/slideLayout" Target="../slideLayouts/slideLayout126.xml"/><Relationship Id="rId14" Type="http://schemas.openxmlformats.org/officeDocument/2006/relationships/slideLayout" Target="../slideLayouts/slideLayout127.xml"/><Relationship Id="rId15" Type="http://schemas.openxmlformats.org/officeDocument/2006/relationships/slideLayout" Target="../slideLayouts/slideLayout128.xml"/><Relationship Id="rId16" Type="http://schemas.openxmlformats.org/officeDocument/2006/relationships/slideLayout" Target="../slideLayouts/slideLayout129.xml"/><Relationship Id="rId17" Type="http://schemas.openxmlformats.org/officeDocument/2006/relationships/slideLayout" Target="../slideLayouts/slideLayout130.xml"/><Relationship Id="rId18" Type="http://schemas.openxmlformats.org/officeDocument/2006/relationships/slideLayout" Target="../slideLayouts/slideLayout131.xml"/><Relationship Id="rId19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hyperlink" Target="http://www.semantic-web-grundlagen.de/" TargetMode="External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6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6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95" name="Picture 7" descr=""/>
          <p:cNvPicPr/>
          <p:nvPr/>
        </p:nvPicPr>
        <p:blipFill>
          <a:blip r:embed="rId7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8"/>
    <p:sldLayoutId id="2147483780" r:id="rId9"/>
    <p:sldLayoutId id="2147483781" r:id="rId10"/>
    <p:sldLayoutId id="2147483782" r:id="rId11"/>
    <p:sldLayoutId id="2147483783" r:id="rId12"/>
    <p:sldLayoutId id="2147483784" r:id="rId13"/>
    <p:sldLayoutId id="2147483785" r:id="rId14"/>
    <p:sldLayoutId id="2147483786" r:id="rId15"/>
    <p:sldLayoutId id="2147483787" r:id="rId16"/>
    <p:sldLayoutId id="2147483788" r:id="rId17"/>
    <p:sldLayoutId id="2147483789" r:id="rId18"/>
    <p:sldLayoutId id="214748379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6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cfefe"/>
              </a:gs>
              <a:gs pos="100000">
                <a:srgbClr val="de332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3"/>
          <p:cNvSpPr>
            <a:spLocks noGrp="1"/>
          </p:cNvSpPr>
          <p:nvPr>
            <p:ph type="sldNum" idx="1"/>
          </p:nvPr>
        </p:nvSpPr>
        <p:spPr>
          <a:xfrm>
            <a:off x="12687480" y="9410400"/>
            <a:ext cx="3427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6997-5D79-448E-AAEB-11872CF4933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http://www.semantic-web-grundlagen.de/index.php/Kapitel_2" TargetMode="External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w3.org/RDF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6972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Lehrveranstaltung im WS09/10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443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7FF4-7FF2-40CA-A544-55A4D7159E3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standteile von RDF-Graph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URI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ur eindeutigen Referenzierung von Ressourc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bereits im Rahmen von XML behandel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teral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beschreiben Datenwerte denen keine separate Existenz zukomm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rlauben Existenzaussagen über ein Individuum mit gewissen Eigenschaften ohne es zu benennen 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C54B-3F80-4AE1-BF8F-91B4CF22B07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iteral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r Repräsentation von Datenwer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rstellung als Zeichenket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terpretation erfolgt durch 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Datentyp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terale ohne Datentyp werden wie Zeichenketten behandel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90" name="Picture 3" descr=""/>
          <p:cNvPicPr/>
          <p:nvPr/>
        </p:nvPicPr>
        <p:blipFill>
          <a:blip r:embed="rId1"/>
          <a:stretch/>
        </p:blipFill>
        <p:spPr>
          <a:xfrm>
            <a:off x="2565360" y="6870600"/>
            <a:ext cx="9221760" cy="1990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78B9-4084-4C4A-A469-F134202B015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Graph als Menge von Tripel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schiedene Darstellungsmöglichkeiten für Graph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ier verwendet: Liste von (Knoten-Kante-Knoten)-Tripel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94" name="Picture 4" descr=""/>
          <p:cNvPicPr/>
          <p:nvPr/>
        </p:nvPicPr>
        <p:blipFill>
          <a:blip r:embed="rId1"/>
          <a:srcRect l="0" t="7583" r="0" b="61242"/>
          <a:stretch/>
        </p:blipFill>
        <p:spPr>
          <a:xfrm>
            <a:off x="330120" y="6019920"/>
            <a:ext cx="12314160" cy="841320"/>
          </a:xfrm>
          <a:prstGeom prst="rect">
            <a:avLst/>
          </a:prstGeom>
          <a:ln w="0">
            <a:noFill/>
          </a:ln>
        </p:spPr>
      </p:pic>
      <p:grpSp>
        <p:nvGrpSpPr>
          <p:cNvPr id="495" name="Group 5"/>
          <p:cNvGrpSpPr/>
          <p:nvPr/>
        </p:nvGrpSpPr>
        <p:grpSpPr>
          <a:xfrm>
            <a:off x="393840" y="6032520"/>
            <a:ext cx="5058360" cy="2349000"/>
            <a:chOff x="393840" y="6032520"/>
            <a:chExt cx="5058360" cy="2349000"/>
          </a:xfrm>
        </p:grpSpPr>
        <p:pic>
          <p:nvPicPr>
            <p:cNvPr id="496" name="Picture 6" descr=""/>
            <p:cNvPicPr/>
            <p:nvPr/>
          </p:nvPicPr>
          <p:blipFill>
            <a:blip r:embed="rId2"/>
            <a:srcRect l="1003" t="8498" r="64050" b="4357"/>
            <a:stretch/>
          </p:blipFill>
          <p:spPr>
            <a:xfrm>
              <a:off x="393840" y="6032520"/>
              <a:ext cx="4378680" cy="234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Picture 7" descr=""/>
            <p:cNvPicPr/>
            <p:nvPr/>
          </p:nvPicPr>
          <p:blipFill>
            <a:blip r:embed="rId3"/>
            <a:srcRect l="35555" t="42441" r="58628" b="42898"/>
            <a:stretch/>
          </p:blipFill>
          <p:spPr>
            <a:xfrm>
              <a:off x="4722480" y="6947280"/>
              <a:ext cx="72972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8" name="Group 8"/>
          <p:cNvGrpSpPr/>
          <p:nvPr/>
        </p:nvGrpSpPr>
        <p:grpSpPr>
          <a:xfrm>
            <a:off x="7399440" y="5989680"/>
            <a:ext cx="5149080" cy="2374560"/>
            <a:chOff x="7399440" y="5989680"/>
            <a:chExt cx="5149080" cy="2374560"/>
          </a:xfrm>
        </p:grpSpPr>
        <p:pic>
          <p:nvPicPr>
            <p:cNvPr id="499" name="Picture 9" descr=""/>
            <p:cNvPicPr/>
            <p:nvPr/>
          </p:nvPicPr>
          <p:blipFill>
            <a:blip r:embed="rId4"/>
            <a:srcRect l="64076" t="6668" r="775" b="5272"/>
            <a:stretch/>
          </p:blipFill>
          <p:spPr>
            <a:xfrm>
              <a:off x="8236800" y="5989680"/>
              <a:ext cx="4311720" cy="237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10" descr=""/>
            <p:cNvPicPr/>
            <p:nvPr/>
          </p:nvPicPr>
          <p:blipFill>
            <a:blip r:embed="rId5"/>
            <a:srcRect l="57245" t="43380" r="35929" b="41960"/>
            <a:stretch/>
          </p:blipFill>
          <p:spPr>
            <a:xfrm>
              <a:off x="7399440" y="6978600"/>
              <a:ext cx="837360" cy="396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5" dur="2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49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26B8-70EB-4785-889F-FE2EF0F3A28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-Trip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63304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Bestandteile eines RDF-Tripels</a:t>
            </a:r>
            <a:br>
              <a:rPr sz="3500"/>
            </a:br>
            <a:br>
              <a:rPr sz="3500"/>
            </a:b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i="1" lang="en-US" sz="3500" spc="-1" strike="noStrike">
                <a:solidFill>
                  <a:srgbClr val="000000"/>
                </a:solidFill>
                <a:latin typeface="Helvetica Neue"/>
              </a:rPr>
              <a:t>Subjekt          Prädikat          Objekt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angelehnt an linguistische Kategorien, aber nicht immer stimmig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rlaubte Belegungen: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Subjekt : URI oder leerer Knoten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Prädikat: URI         (auch Propertys genannt)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Objekt   : URI oder leerer Knoten oder Literal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Knoten- und Kantenbezeichner eindeutig, daher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ursprünglicher Graph aus Tripel-Liste rekonstruierbar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04" name="Picture 3" descr=""/>
          <p:cNvPicPr/>
          <p:nvPr/>
        </p:nvPicPr>
        <p:blipFill>
          <a:blip r:embed="rId1"/>
          <a:stretch/>
        </p:blipFill>
        <p:spPr>
          <a:xfrm>
            <a:off x="1079640" y="2793960"/>
            <a:ext cx="11215440" cy="965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FCEA-4EA9-48C1-BB34-A970849AFE3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2D95-EBA4-4ABC-9503-EDF99BBAE82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Syntax für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rekte Auflistung der Tripel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3: "Notation 3" - umfangreicher Formalismu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-Triples: Teil von N3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urtle: Erweiterung von N-Triples (Abkürzung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in Turtle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RIs in spitzen Klammer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Literale in Anführungszeich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ripel durch Punkt abgeschloss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Leerzeichen und Zeilenumbrüche außerhalb von Bezeichenern werden ignorier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A856-2219-4D29-8D21-028EED73D1C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urtle Syntax: Abkürz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Beispiel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auch in Turtle können Abkürzungen für Präfixe festgelegt werden: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14" name="Picture 3" descr=""/>
          <p:cNvPicPr/>
          <p:nvPr/>
        </p:nvPicPr>
        <p:blipFill>
          <a:blip r:embed="rId1"/>
          <a:stretch/>
        </p:blipFill>
        <p:spPr>
          <a:xfrm>
            <a:off x="2095560" y="6705720"/>
            <a:ext cx="9870840" cy="25095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" descr=""/>
          <p:cNvPicPr/>
          <p:nvPr/>
        </p:nvPicPr>
        <p:blipFill>
          <a:blip r:embed="rId2"/>
          <a:stretch/>
        </p:blipFill>
        <p:spPr>
          <a:xfrm>
            <a:off x="2286000" y="2565360"/>
            <a:ext cx="9794880" cy="2349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D918-85AD-46E1-8ACC-D6E8147FF48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urtle Syntax: Abkürz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mehrere Tripel mit gleichem Subjekt kann man zusammenfassen: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benso Tripel mit gleichem Subjekt und Prädikat: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19" name="Picture 3" descr=""/>
          <p:cNvPicPr/>
          <p:nvPr/>
        </p:nvPicPr>
        <p:blipFill>
          <a:blip r:embed="rId1"/>
          <a:stretch/>
        </p:blipFill>
        <p:spPr>
          <a:xfrm>
            <a:off x="2133720" y="3251160"/>
            <a:ext cx="10362960" cy="25560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4" descr=""/>
          <p:cNvPicPr/>
          <p:nvPr/>
        </p:nvPicPr>
        <p:blipFill>
          <a:blip r:embed="rId2"/>
          <a:stretch/>
        </p:blipFill>
        <p:spPr>
          <a:xfrm>
            <a:off x="2043000" y="7404120"/>
            <a:ext cx="10547640" cy="1663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02E5-CA3F-4F41-91EB-77564A1DF51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urtle intuitiv gut lesbar und maschinenverarbeitba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ber: bessere Tool-Unterstützung und Programmbibliotheken für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her: XML-Syntax am verbreitet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ADFB-53C0-4F33-A4E8-6A24EBE50F0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wie in XML werden Namensräume eingesetzt, um Tagnamen zu disambiguier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-eigene tags haben einen festgelegten Na-mensraum, der Bezeichner ist standardmäßig ‘rdf’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27" name="Picture 3" descr=""/>
          <p:cNvPicPr/>
          <p:nvPr/>
        </p:nvPicPr>
        <p:blipFill>
          <a:blip r:embed="rId1"/>
          <a:stretch/>
        </p:blipFill>
        <p:spPr>
          <a:xfrm>
            <a:off x="2004840" y="4927680"/>
            <a:ext cx="10071360" cy="483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4" name=""/>
          <p:cNvGraphicFramePr/>
          <p:nvPr/>
        </p:nvGraphicFramePr>
        <p:xfrm>
          <a:off x="687240" y="3683160"/>
          <a:ext cx="6070680" cy="5483160"/>
        </p:xfrm>
        <a:graphic>
          <a:graphicData uri="http://schemas.openxmlformats.org/drawingml/2006/table">
            <a:tbl>
              <a:tblPr/>
              <a:tblGrid>
                <a:gridCol w="6070680"/>
              </a:tblGrid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XM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junktive Anfragen / Einführung Regelsprachen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eln für OW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tology Engineer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- Anwendun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69720" y="1638000"/>
            <a:ext cx="1046484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Einführung in RDF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69720" y="288252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47" name="Rectangle 3"/>
          <p:cNvSpPr/>
          <p:nvPr/>
        </p:nvSpPr>
        <p:spPr>
          <a:xfrm>
            <a:off x="7346880" y="3309840"/>
            <a:ext cx="4622760" cy="3891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7345440" y="3325680"/>
            <a:ext cx="4626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Rectangle 5"/>
          <p:cNvSpPr/>
          <p:nvPr/>
        </p:nvSpPr>
        <p:spPr>
          <a:xfrm>
            <a:off x="7346880" y="3676680"/>
            <a:ext cx="463248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0" name="Picture 6" descr=""/>
          <p:cNvPicPr/>
          <p:nvPr/>
        </p:nvPicPr>
        <p:blipFill>
          <a:blip r:embed="rId1"/>
          <a:stretch/>
        </p:blipFill>
        <p:spPr>
          <a:xfrm>
            <a:off x="7532640" y="3906720"/>
            <a:ext cx="4280040" cy="443088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7"/>
          <p:cNvSpPr/>
          <p:nvPr/>
        </p:nvSpPr>
        <p:spPr>
          <a:xfrm>
            <a:off x="7643880" y="5780160"/>
            <a:ext cx="32544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Rectangle 8"/>
          <p:cNvSpPr/>
          <p:nvPr/>
        </p:nvSpPr>
        <p:spPr>
          <a:xfrm>
            <a:off x="8507520" y="8313840"/>
            <a:ext cx="176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Rectangle 9"/>
          <p:cNvSpPr/>
          <p:nvPr/>
        </p:nvSpPr>
        <p:spPr>
          <a:xfrm>
            <a:off x="7643880" y="4502160"/>
            <a:ext cx="411624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Rectangle 10"/>
          <p:cNvSpPr/>
          <p:nvPr/>
        </p:nvSpPr>
        <p:spPr>
          <a:xfrm>
            <a:off x="8150400" y="454644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Rectangle 11"/>
          <p:cNvSpPr/>
          <p:nvPr/>
        </p:nvSpPr>
        <p:spPr>
          <a:xfrm>
            <a:off x="7480440" y="3848040"/>
            <a:ext cx="4457520" cy="4876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6" name="Picture 12" descr=""/>
          <p:cNvPicPr/>
          <p:nvPr/>
        </p:nvPicPr>
        <p:blipFill>
          <a:blip r:embed="rId2"/>
          <a:srcRect l="3511" t="67446" r="21726" b="22809"/>
          <a:stretch/>
        </p:blipFill>
        <p:spPr>
          <a:xfrm>
            <a:off x="7670880" y="6921360"/>
            <a:ext cx="3200400" cy="43200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63"/>
          <p:cNvSpPr/>
          <p:nvPr/>
        </p:nvSpPr>
        <p:spPr>
          <a:xfrm>
            <a:off x="647640" y="4140360"/>
            <a:ext cx="6108840" cy="431640"/>
          </a:xfrm>
          <a:prstGeom prst="rect">
            <a:avLst/>
          </a:prstGeom>
          <a:noFill/>
          <a:ln w="8892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Rectangle 64"/>
          <p:cNvSpPr/>
          <p:nvPr/>
        </p:nvSpPr>
        <p:spPr>
          <a:xfrm>
            <a:off x="25560" y="9468000"/>
            <a:ext cx="15913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entspricht dem ersten Teil von Kapitel 3 des Buches „Semantic Web - Grundlagen“ - siehe auch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Helvetica Neue"/>
                <a:ea typeface="Helvetica Neue"/>
                <a:hlinkClick r:id="rId3"/>
              </a:rPr>
              <a:t>http://www.semantic-web-grundlagen.de/index.php/Kapitel_3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1C4E-A107-4939-A50B-50B50ABA4A0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95360" y="2070000"/>
            <a:ext cx="1026144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Das rdf:Description-Element kodiert das Subjekt (dessen URI wird als Wert des zugehörigen rdf:about-Attributs angegeben)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Jedes geschachtelt im rdf:Description-Element enthaltene Element steht für ein Prädikat (dessen URI ist der Elementname), das wiederum das Tripel-Objekt als rdf:Description-Element enthält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31" name="Picture 3" descr=""/>
          <p:cNvPicPr/>
          <p:nvPr/>
        </p:nvPicPr>
        <p:blipFill>
          <a:blip r:embed="rId1"/>
          <a:srcRect l="0" t="33598" r="238" b="17845"/>
          <a:stretch/>
        </p:blipFill>
        <p:spPr>
          <a:xfrm>
            <a:off x="1003320" y="6908760"/>
            <a:ext cx="10045800" cy="23497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4" descr=""/>
          <p:cNvPicPr/>
          <p:nvPr/>
        </p:nvPicPr>
        <p:blipFill>
          <a:blip r:embed="rId2"/>
          <a:stretch/>
        </p:blipFill>
        <p:spPr>
          <a:xfrm rot="5400000">
            <a:off x="7812000" y="4819680"/>
            <a:ext cx="8559720" cy="1257120"/>
          </a:xfrm>
          <a:prstGeom prst="rect">
            <a:avLst/>
          </a:prstGeom>
          <a:ln w="0">
            <a:noFill/>
          </a:ln>
        </p:spPr>
      </p:pic>
      <p:sp>
        <p:nvSpPr>
          <p:cNvPr id="533" name="Line 5"/>
          <p:cNvSpPr/>
          <p:nvPr/>
        </p:nvSpPr>
        <p:spPr>
          <a:xfrm flipH="1">
            <a:off x="10109160" y="3860640"/>
            <a:ext cx="1641600" cy="3114720"/>
          </a:xfrm>
          <a:prstGeom prst="line">
            <a:avLst/>
          </a:prstGeom>
          <a:ln w="114480">
            <a:solidFill>
              <a:srgbClr val="901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Line 6"/>
          <p:cNvSpPr/>
          <p:nvPr/>
        </p:nvSpPr>
        <p:spPr>
          <a:xfrm flipH="1">
            <a:off x="4089240" y="7450200"/>
            <a:ext cx="6731280" cy="71280"/>
          </a:xfrm>
          <a:prstGeom prst="line">
            <a:avLst/>
          </a:prstGeom>
          <a:ln w="114480">
            <a:solidFill>
              <a:srgbClr val="901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Line 7"/>
          <p:cNvSpPr/>
          <p:nvPr/>
        </p:nvSpPr>
        <p:spPr>
          <a:xfrm flipH="1" flipV="1">
            <a:off x="10616760" y="7902360"/>
            <a:ext cx="1032120" cy="4680"/>
          </a:xfrm>
          <a:prstGeom prst="line">
            <a:avLst/>
          </a:prstGeom>
          <a:ln w="114480">
            <a:solidFill>
              <a:srgbClr val="901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Line 8"/>
          <p:cNvSpPr/>
          <p:nvPr/>
        </p:nvSpPr>
        <p:spPr>
          <a:xfrm flipH="1">
            <a:off x="10769400" y="5349960"/>
            <a:ext cx="1539720" cy="2108160"/>
          </a:xfrm>
          <a:prstGeom prst="line">
            <a:avLst/>
          </a:prstGeom>
          <a:ln w="114480">
            <a:solidFill>
              <a:srgbClr val="901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D3C0-FFDF-49C5-8277-2E017F1A527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ungetypte Literale können als Freitext in das Prädikatelement eingeschlossen werd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kürzte Darstellung erlaubt: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 Subjekt enthält mehrere Property-Element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e Objekt-Description dient als Subjekt für ein weiteres Tripe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40" name="Picture 3" descr=""/>
          <p:cNvPicPr/>
          <p:nvPr/>
        </p:nvPicPr>
        <p:blipFill>
          <a:blip r:embed="rId1"/>
          <a:stretch/>
        </p:blipFill>
        <p:spPr>
          <a:xfrm>
            <a:off x="1511280" y="6095880"/>
            <a:ext cx="8039160" cy="27450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4" descr=""/>
          <p:cNvPicPr/>
          <p:nvPr/>
        </p:nvPicPr>
        <p:blipFill>
          <a:blip r:embed="rId2"/>
          <a:stretch/>
        </p:blipFill>
        <p:spPr>
          <a:xfrm>
            <a:off x="5165640" y="8023320"/>
            <a:ext cx="7831080" cy="1690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30DB-972B-4D13-B8D6-59DA9C78713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ternative (aber semantisch gleichwertige) Darstellung für Literale als XML-Attribut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ttributnamen sind dann die Property-URI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ngabe von Objekt-URIs als Wert des rdf:resource-Attributs innerhalb eines Property-Tags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45" name="Picture 3" descr=""/>
          <p:cNvPicPr/>
          <p:nvPr/>
        </p:nvPicPr>
        <p:blipFill>
          <a:blip r:embed="rId1"/>
          <a:stretch/>
        </p:blipFill>
        <p:spPr>
          <a:xfrm>
            <a:off x="165240" y="6019920"/>
            <a:ext cx="7864200" cy="19796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4" descr=""/>
          <p:cNvPicPr/>
          <p:nvPr/>
        </p:nvPicPr>
        <p:blipFill>
          <a:blip r:embed="rId2"/>
          <a:stretch/>
        </p:blipFill>
        <p:spPr>
          <a:xfrm>
            <a:off x="5165640" y="8023320"/>
            <a:ext cx="7831080" cy="1690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23D4-F3D2-4C91-9154-05C9E709CC6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/XML-Syntax: Komplik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Namensräume sind essentiell (nicht nur Abkürzung), da in XML-Elementen und -Attributen keine Doppelpunkte zulässig, die keine Namensräume kodieren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Problem: in XML keine Namensräume in Attributwerten möglich (würde im Sinne eines URI-Schemas interpretiert), also z.B. verboten: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"Workaround" via XML-Entitäten: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Deklaration:</a:t>
            </a:r>
            <a:br>
              <a:rPr sz="3300"/>
            </a:b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Verwendung: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50" name="Picture 3" descr=""/>
          <p:cNvPicPr/>
          <p:nvPr/>
        </p:nvPicPr>
        <p:blipFill>
          <a:blip r:embed="rId1"/>
          <a:stretch/>
        </p:blipFill>
        <p:spPr>
          <a:xfrm>
            <a:off x="2476440" y="7535880"/>
            <a:ext cx="7183440" cy="5652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4" descr=""/>
          <p:cNvPicPr/>
          <p:nvPr/>
        </p:nvPicPr>
        <p:blipFill>
          <a:blip r:embed="rId2"/>
          <a:stretch/>
        </p:blipFill>
        <p:spPr>
          <a:xfrm>
            <a:off x="2489040" y="8470800"/>
            <a:ext cx="7147080" cy="52092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5" descr=""/>
          <p:cNvPicPr/>
          <p:nvPr/>
        </p:nvPicPr>
        <p:blipFill>
          <a:blip r:embed="rId3"/>
          <a:stretch/>
        </p:blipFill>
        <p:spPr>
          <a:xfrm>
            <a:off x="2832120" y="5575320"/>
            <a:ext cx="6202440" cy="46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56D1-472D-4D9D-8C20-E848BF46ED2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/XML-Syntax: Basis-URI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rbeit mit Basis-URIs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rkennung relativer URIs an Abwesenheit eines Schemateil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56" name="Picture 3" descr=""/>
          <p:cNvPicPr/>
          <p:nvPr/>
        </p:nvPicPr>
        <p:blipFill>
          <a:blip r:embed="rId1"/>
          <a:stretch/>
        </p:blipFill>
        <p:spPr>
          <a:xfrm>
            <a:off x="2195640" y="2857680"/>
            <a:ext cx="9316800" cy="2920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BBA5-5E4E-4AEF-ACC9-1B00B11975B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6F01-F4FA-43EF-A4C7-43EF6920100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tentypen - Abstrak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67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781920" indent="-5025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ispiel: xsd:decima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-5025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-5025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zgl. xsd:decimal gilt "3.14"="+03.14"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zgl. xsd:string nicht!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3" name="Oval 3"/>
          <p:cNvSpPr/>
          <p:nvPr/>
        </p:nvSpPr>
        <p:spPr>
          <a:xfrm>
            <a:off x="1930320" y="3835440"/>
            <a:ext cx="2540160" cy="4114800"/>
          </a:xfrm>
          <a:prstGeom prst="ellipse">
            <a:avLst/>
          </a:prstGeom>
          <a:solidFill>
            <a:srgbClr val="fffb5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Oval 4"/>
          <p:cNvSpPr/>
          <p:nvPr/>
        </p:nvSpPr>
        <p:spPr>
          <a:xfrm>
            <a:off x="8928000" y="4305240"/>
            <a:ext cx="2502000" cy="3505320"/>
          </a:xfrm>
          <a:prstGeom prst="ellipse">
            <a:avLst/>
          </a:prstGeom>
          <a:solidFill>
            <a:srgbClr val="fffb5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Rectangle 5"/>
          <p:cNvSpPr/>
          <p:nvPr/>
        </p:nvSpPr>
        <p:spPr>
          <a:xfrm>
            <a:off x="8614800" y="2886480"/>
            <a:ext cx="3382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Wertebereic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Rectangle 6"/>
          <p:cNvSpPr/>
          <p:nvPr/>
        </p:nvSpPr>
        <p:spPr>
          <a:xfrm>
            <a:off x="235440" y="2886480"/>
            <a:ext cx="5106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lexikalischer Bereic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Rectangle 7"/>
          <p:cNvSpPr/>
          <p:nvPr/>
        </p:nvSpPr>
        <p:spPr>
          <a:xfrm>
            <a:off x="9711720" y="4649040"/>
            <a:ext cx="604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3,14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Rectangle 8"/>
          <p:cNvSpPr/>
          <p:nvPr/>
        </p:nvSpPr>
        <p:spPr>
          <a:xfrm>
            <a:off x="9635400" y="5766840"/>
            <a:ext cx="528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-2,5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Rectangle 9"/>
          <p:cNvSpPr/>
          <p:nvPr/>
        </p:nvSpPr>
        <p:spPr>
          <a:xfrm>
            <a:off x="9879840" y="6985800"/>
            <a:ext cx="52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Rectangle 10"/>
          <p:cNvSpPr/>
          <p:nvPr/>
        </p:nvSpPr>
        <p:spPr>
          <a:xfrm>
            <a:off x="2678040" y="4141080"/>
            <a:ext cx="854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3.14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Rectangle 11"/>
          <p:cNvSpPr/>
          <p:nvPr/>
        </p:nvSpPr>
        <p:spPr>
          <a:xfrm>
            <a:off x="2418120" y="4763520"/>
            <a:ext cx="1375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3.14000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Rectangle 12"/>
          <p:cNvSpPr/>
          <p:nvPr/>
        </p:nvSpPr>
        <p:spPr>
          <a:xfrm>
            <a:off x="2821680" y="5589000"/>
            <a:ext cx="1201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+03.14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Rectangle 13"/>
          <p:cNvSpPr/>
          <p:nvPr/>
        </p:nvSpPr>
        <p:spPr>
          <a:xfrm>
            <a:off x="3034440" y="6414480"/>
            <a:ext cx="777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-2.5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Rectangle 14"/>
          <p:cNvSpPr/>
          <p:nvPr/>
        </p:nvSpPr>
        <p:spPr>
          <a:xfrm>
            <a:off x="2504160" y="7189200"/>
            <a:ext cx="1201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100.00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Line 15"/>
          <p:cNvSpPr/>
          <p:nvPr/>
        </p:nvSpPr>
        <p:spPr>
          <a:xfrm flipH="1" flipV="1">
            <a:off x="3632040" y="4287960"/>
            <a:ext cx="5997600" cy="45720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Line 16"/>
          <p:cNvSpPr/>
          <p:nvPr/>
        </p:nvSpPr>
        <p:spPr>
          <a:xfrm flipH="1">
            <a:off x="3822480" y="4846680"/>
            <a:ext cx="5824440" cy="13968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Line 17"/>
          <p:cNvSpPr/>
          <p:nvPr/>
        </p:nvSpPr>
        <p:spPr>
          <a:xfrm flipH="1">
            <a:off x="4025520" y="4948200"/>
            <a:ext cx="5638680" cy="80028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Line 18"/>
          <p:cNvSpPr/>
          <p:nvPr/>
        </p:nvSpPr>
        <p:spPr>
          <a:xfrm flipH="1">
            <a:off x="3846600" y="6014880"/>
            <a:ext cx="5783040" cy="62244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Line 19"/>
          <p:cNvSpPr/>
          <p:nvPr/>
        </p:nvSpPr>
        <p:spPr>
          <a:xfrm flipH="1">
            <a:off x="3804840" y="7183440"/>
            <a:ext cx="6078600" cy="18576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Rectangle 20"/>
          <p:cNvSpPr/>
          <p:nvPr/>
        </p:nvSpPr>
        <p:spPr>
          <a:xfrm>
            <a:off x="4316040" y="3673800"/>
            <a:ext cx="4844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Datentypabbildung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F074-82C9-41E9-9718-5356BF7AB26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tentypen i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isher: Literale ungetypt, wie Zeichenketten behandelt (also z.B.: "02"&lt;"100"&lt;"11"&lt;"2"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ypung erlaubt besseren (semantischen = bedeutungsgemäßen) Umgang mit Wer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 werden durch URIs identifiziert und sind im Prinzip frei wählba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äufig: Verwendung von xsd-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: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Datenwert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^^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Datentyp-URI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2348-AF90-4A10-A5BD-4E5BC1C8860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tentypen in RDF -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43080" y="20318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ap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urtle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XML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87" name="Picture 3" descr=""/>
          <p:cNvPicPr/>
          <p:nvPr/>
        </p:nvPicPr>
        <p:blipFill>
          <a:blip r:embed="rId1"/>
          <a:stretch/>
        </p:blipFill>
        <p:spPr>
          <a:xfrm>
            <a:off x="3238560" y="2171880"/>
            <a:ext cx="9563040" cy="239688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4" descr=""/>
          <p:cNvPicPr/>
          <p:nvPr/>
        </p:nvPicPr>
        <p:blipFill>
          <a:blip r:embed="rId2"/>
          <a:stretch/>
        </p:blipFill>
        <p:spPr>
          <a:xfrm>
            <a:off x="3174840" y="5181480"/>
            <a:ext cx="8021880" cy="12826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5" descr=""/>
          <p:cNvPicPr/>
          <p:nvPr/>
        </p:nvPicPr>
        <p:blipFill>
          <a:blip r:embed="rId3"/>
          <a:stretch/>
        </p:blipFill>
        <p:spPr>
          <a:xfrm>
            <a:off x="3200400" y="6946920"/>
            <a:ext cx="7939080" cy="2781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42AB-935F-4C4D-B5C0-A5CA156E883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er vordefinierte Datentyp</a:t>
            </a: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	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:XMLLiteral ist einziger vordefinierter Datentyp in RD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zeichnet beliebige (balancierte) XML-Fragment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 RDF/XML besondere Syntax zur eindeutigen Darstellung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93" name="Picture 3" descr=""/>
          <p:cNvPicPr/>
          <p:nvPr/>
        </p:nvPicPr>
        <p:blipFill>
          <a:blip r:embed="rId1"/>
          <a:stretch/>
        </p:blipFill>
        <p:spPr>
          <a:xfrm>
            <a:off x="1905120" y="6718320"/>
            <a:ext cx="9740880" cy="2870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1E25-6EFD-4DE0-9612-2CFF4F20A5A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4499-2147-425A-AADF-B092DD6B8DC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prachangaben und Datentyp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prachinformationen beeinflussen nur ungetypte Literal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ispiel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XM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urtle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97" name="Picture 3" descr=""/>
          <p:cNvPicPr/>
          <p:nvPr/>
        </p:nvPicPr>
        <p:blipFill>
          <a:blip r:embed="rId1"/>
          <a:stretch/>
        </p:blipFill>
        <p:spPr>
          <a:xfrm>
            <a:off x="1739880" y="5270400"/>
            <a:ext cx="11176200" cy="167652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4" descr=""/>
          <p:cNvPicPr/>
          <p:nvPr/>
        </p:nvPicPr>
        <p:blipFill>
          <a:blip r:embed="rId2"/>
          <a:stretch/>
        </p:blipFill>
        <p:spPr>
          <a:xfrm>
            <a:off x="1714680" y="7848720"/>
            <a:ext cx="10921680" cy="915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55FC-50FF-486B-AE39-C8E98ADAC76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prachangaben und Datentyp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nach RDF-Spezifikation sind demnach die folgenden Literale unterschiedlic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...werden aber häufig (intuitionsgemäß) als gleich implementiert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02" name="Picture 3" descr=""/>
          <p:cNvPicPr/>
          <p:nvPr/>
        </p:nvPicPr>
        <p:blipFill>
          <a:blip r:embed="rId1"/>
          <a:stretch/>
        </p:blipFill>
        <p:spPr>
          <a:xfrm>
            <a:off x="1816200" y="3568680"/>
            <a:ext cx="1042668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8A17-3C61-4F6B-8F55-3CE29EF40C1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78B6-062F-4ED9-AF6D-B45750A299B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ehrwertige 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Kochen mit RDF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"</a:t>
            </a:r>
            <a:r>
              <a:rPr b="0" i="1" lang="en-US" sz="3400" spc="-1" strike="noStrike">
                <a:solidFill>
                  <a:srgbClr val="000000"/>
                </a:solidFill>
                <a:latin typeface="Helvetica Neue"/>
              </a:rPr>
              <a:t>Für die Zubereitung von Chutney benötigt man 450g grüne Mango, einen Teelöffel Cayennepfeffer, ...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"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erster Modellierungsversuch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nicht zufriedenstellend: Zutaten samt Menge als Zeichenkette. Suche nach Rezepten, die grüne Mango beinhalten, so nicht möglich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09" name="Picture 3" descr=""/>
          <p:cNvPicPr/>
          <p:nvPr/>
        </p:nvPicPr>
        <p:blipFill>
          <a:blip r:embed="rId1"/>
          <a:stretch/>
        </p:blipFill>
        <p:spPr>
          <a:xfrm>
            <a:off x="2030400" y="5499000"/>
            <a:ext cx="10277640" cy="817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B9D0-BEE1-4976-B750-2BE35A84A1E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ehrwertige 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Kochen mit RDF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"</a:t>
            </a:r>
            <a:r>
              <a:rPr b="0" i="1" lang="en-US" sz="3400" spc="-1" strike="noStrike">
                <a:solidFill>
                  <a:srgbClr val="000000"/>
                </a:solidFill>
                <a:latin typeface="Helvetica Neue"/>
              </a:rPr>
              <a:t>Für die Zubereitung von Chutney benötigt man 450g grüne Mango, einen Teelöffel Cayennepfeffer, ...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"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zweiter Modellierungsversuch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überhaupt nicht zufriedenstellend: keine eindeutige Zuordnung von konkreter Zutat und Menge mehr möglich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13" name="Picture 3" descr=""/>
          <p:cNvPicPr/>
          <p:nvPr/>
        </p:nvPicPr>
        <p:blipFill>
          <a:blip r:embed="rId1"/>
          <a:stretch/>
        </p:blipFill>
        <p:spPr>
          <a:xfrm>
            <a:off x="2082960" y="5308560"/>
            <a:ext cx="10605960" cy="1347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1C99-45E1-4C9D-BCD5-3445F109E04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ehrwertige 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blem: es handelt sich um eine echte dreiwertige (auch: ternäre) Beziehung (s. z.B. Datenbanken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rekte Darstellung in RDF nicht möglich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ösung: Einführung von Hilfs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2859120" y="4356000"/>
          <a:ext cx="7264440" cy="2055960"/>
        </p:xfrm>
        <a:graphic>
          <a:graphicData uri="http://schemas.openxmlformats.org/drawingml/2006/table">
            <a:tbl>
              <a:tblPr/>
              <a:tblGrid>
                <a:gridCol w="2101680"/>
                <a:gridCol w="3367080"/>
                <a:gridCol w="17956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Gerich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0ad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Zuta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0ad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Meng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0ad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Chutne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grüne Mang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450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Chutne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Cayennepfeff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1 T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2791-6DB7-4895-ADD9-9B5946D530D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ehrwertige 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ilfsknoten in RDF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s Graph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urtle-Syntax (mit Verwendung von rdf:value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21" name="Picture 3" descr=""/>
          <p:cNvPicPr/>
          <p:nvPr/>
        </p:nvPicPr>
        <p:blipFill>
          <a:blip r:embed="rId1"/>
          <a:stretch/>
        </p:blipFill>
        <p:spPr>
          <a:xfrm>
            <a:off x="2324160" y="3733920"/>
            <a:ext cx="9423360" cy="191772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4" descr=""/>
          <p:cNvPicPr/>
          <p:nvPr/>
        </p:nvPicPr>
        <p:blipFill>
          <a:blip r:embed="rId2"/>
          <a:stretch/>
        </p:blipFill>
        <p:spPr>
          <a:xfrm>
            <a:off x="2093760" y="6921360"/>
            <a:ext cx="1037916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0DB0-01EC-436F-854A-2AEF595F1E7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4DA7-F4A4-4A38-96B7-F7BF12D46B9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eere Kno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 (blank nodes, bnodes) können für Ressourcen verwendet werden, die nicht benannt werden müssen (z.B. Hilfsknoten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önnen als Existenzaussagen gelesen werd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s Grap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29" name="Picture 3" descr=""/>
          <p:cNvPicPr/>
          <p:nvPr/>
        </p:nvPicPr>
        <p:blipFill>
          <a:blip r:embed="rId1"/>
          <a:stretch/>
        </p:blipFill>
        <p:spPr>
          <a:xfrm>
            <a:off x="2603520" y="7404120"/>
            <a:ext cx="8869320" cy="1816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E82D-129F-4EB2-B06D-D1027A0115F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eere Kno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/XML-Syntax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kürz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33" name="Picture 3" descr=""/>
          <p:cNvPicPr/>
          <p:nvPr/>
        </p:nvPicPr>
        <p:blipFill>
          <a:blip r:embed="rId1"/>
          <a:stretch/>
        </p:blipFill>
        <p:spPr>
          <a:xfrm>
            <a:off x="2489040" y="7264440"/>
            <a:ext cx="8817120" cy="216684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4" descr=""/>
          <p:cNvPicPr/>
          <p:nvPr/>
        </p:nvPicPr>
        <p:blipFill>
          <a:blip r:embed="rId2"/>
          <a:stretch/>
        </p:blipFill>
        <p:spPr>
          <a:xfrm>
            <a:off x="2487600" y="3733920"/>
            <a:ext cx="8809200" cy="2543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E7BA-9F7E-49FC-822A-65DE7DA28AE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4CEE-21EE-4044-9EBC-323027A1500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eere Kno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urtl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kürz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38" name="Picture 3" descr=""/>
          <p:cNvPicPr/>
          <p:nvPr/>
        </p:nvPicPr>
        <p:blipFill>
          <a:blip r:embed="rId1"/>
          <a:stretch/>
        </p:blipFill>
        <p:spPr>
          <a:xfrm>
            <a:off x="2805120" y="3670200"/>
            <a:ext cx="9640800" cy="127332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4" descr=""/>
          <p:cNvPicPr/>
          <p:nvPr/>
        </p:nvPicPr>
        <p:blipFill>
          <a:blip r:embed="rId2"/>
          <a:stretch/>
        </p:blipFill>
        <p:spPr>
          <a:xfrm>
            <a:off x="2832120" y="6273720"/>
            <a:ext cx="9575640" cy="1244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4D1C-9E5B-4106-ACCA-8945D170205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3D60-08BC-48C4-8CF5-84FBE035CB2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282680" y="1854000"/>
            <a:ext cx="11531520" cy="794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lgemeine Datenstrukturen zur Aufzählung von beliebig vielen Ressourcen (Reihenfolge relevant), z.B. Autoren eines Buch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0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Unterscheidung zwisch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66480" indent="-542520">
              <a:spcBef>
                <a:spcPts val="20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offenen Listen (Container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Hinzufügen von neuen Einträgen möglic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266480" indent="-542520">
              <a:spcBef>
                <a:spcPts val="20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geschlossenen Listen (Collections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Hinzufügen von  neuen Einträgen nicht möglic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0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önnen auch mit bereits vorgestellten Ausdrucksmitteln modelliert werden, also keine zusätzliche Ausdrucksstärke!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BD12-B3F3-4178-AEBF-A7E4186DC35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ffene Listen (Container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ap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kürzt in RDF/XML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49" name="Picture 3" descr=""/>
          <p:cNvPicPr/>
          <p:nvPr/>
        </p:nvPicPr>
        <p:blipFill>
          <a:blip r:embed="rId1"/>
          <a:stretch/>
        </p:blipFill>
        <p:spPr>
          <a:xfrm>
            <a:off x="2171880" y="2755800"/>
            <a:ext cx="8650080" cy="280692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4" descr=""/>
          <p:cNvPicPr/>
          <p:nvPr/>
        </p:nvPicPr>
        <p:blipFill>
          <a:blip r:embed="rId2"/>
          <a:stretch/>
        </p:blipFill>
        <p:spPr>
          <a:xfrm>
            <a:off x="2860560" y="6642000"/>
            <a:ext cx="7274160" cy="2793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25F8-B889-40A8-AF40-DC6DF019899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ypen offener 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ia rdf:type wird dem Listen-Wurzelknoten ein Listentyp zugewiesen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:Seq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terpretation als geordnete Liste (Sequenz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:Ba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terpretation als ungeordnete Meng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 RDF kodierte Reihenfolge nicht von Belang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:Al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enge alternativer Möglichkeit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m Regelfall immer nur ein Listeneintrag releva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E183-8E64-4542-919D-38C9A08C2FC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Geschlossene Listen (Collections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marL="826560" indent="-5310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ap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-5310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dee: rekursive Zerlegung der Liste in Kopfelement und (möglicherweise leere) Restliste.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57" name="Picture 3" descr=""/>
          <p:cNvPicPr/>
          <p:nvPr/>
        </p:nvPicPr>
        <p:blipFill>
          <a:blip r:embed="rId1"/>
          <a:stretch/>
        </p:blipFill>
        <p:spPr>
          <a:xfrm>
            <a:off x="2755800" y="2324160"/>
            <a:ext cx="8690040" cy="519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1969-0724-47EF-836F-2BC21B2AE2C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Geschlossene Listen (Collections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/XML-Syntax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urtl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61" name="Picture 3" descr=""/>
          <p:cNvPicPr/>
          <p:nvPr/>
        </p:nvPicPr>
        <p:blipFill>
          <a:blip r:embed="rId1"/>
          <a:stretch/>
        </p:blipFill>
        <p:spPr>
          <a:xfrm>
            <a:off x="1917720" y="3009960"/>
            <a:ext cx="10258560" cy="298440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4" descr=""/>
          <p:cNvPicPr/>
          <p:nvPr/>
        </p:nvPicPr>
        <p:blipFill>
          <a:blip r:embed="rId2"/>
          <a:stretch/>
        </p:blipFill>
        <p:spPr>
          <a:xfrm>
            <a:off x="1890720" y="7543800"/>
            <a:ext cx="10858320" cy="120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3E7D-3369-45FD-B201-E0C62060C69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erbreitungsgrad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heute existiert Vielzahl von RDF-Tools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Programmier-Bibliotheken für praktisch jede Programmiersprache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frei verfügbare Systeme zum Umgang mit großen RDF-Datenmengen (sogenannte RDF Stores oder Triple Stores)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auch kommerzielle Anbieter (z.B. Oracle) unterstützen zunehmend RDF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Grundlage für Datenformate: RSS 1.0, XMP (Adobe), SVG (Vektorgrafikformat)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F31F-6C49-4805-9048-26FE9790DF8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wertung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eitläufig unterstützter Standard für Speicherung und Austausch von Da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rmöglicht weitgehend syntaxunabhängige Darstellung verteilter Informationen in graphbasiertem 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nes RDF sehr "individuenorientiert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aum Möglichkeiten zur Kodierung von Schemawi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Zapf Dingbats"/>
              </a:rPr>
              <a:t>➜ 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Zapf Dingbats"/>
              </a:rPr>
              <a:t>RDF Schema (nächste Vorlesung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58AE-CDC3-4FA6-92FD-A3CE26AF4AD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g-Namen ambig (durch Namespaces und URIs behebbar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aumstruktur nicht optimal fü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tuitive Beschreibung der Dat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formationsintegratio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ispiel: wie kodiert man in einem Baum den Fakt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Das Buch 'Semantic Web - Grundlagen' wird beim Springer-Verlag verlegt"?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7" name="Rectangle 3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Unzulänglichkeiten von XML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0C2E-5607-4228-83B9-5248AA31718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odellierungsprobleme in XM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Das Buch 'Semantic Web - Grundlagen' wird beim Springer-Verlag verlegt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                                        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tc. ...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1" name="Rectangle 3"/>
          <p:cNvSpPr/>
          <p:nvPr/>
        </p:nvSpPr>
        <p:spPr>
          <a:xfrm>
            <a:off x="1143000" y="3600360"/>
            <a:ext cx="74296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egt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ag&gt;Springer-Verlag&lt;/Verlag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Buch&gt;Semantic Web - Grundlagen&lt;/Buch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Verlegt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Rectangle 4"/>
          <p:cNvSpPr/>
          <p:nvPr/>
        </p:nvSpPr>
        <p:spPr>
          <a:xfrm>
            <a:off x="5816520" y="5213520"/>
            <a:ext cx="742968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ag Name="Springer-Verlag"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egt Buch="Semantic Web - Grundlagen" /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Verlag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1143000" y="6927840"/>
            <a:ext cx="742968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Buch Name="Semantic Web - Grundlagen"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eger Verlag="Springer-Verlag" /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Buch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D9F9-7786-4FC6-837C-4580BC05847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: Graphen statt Bäum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ösung: Darstellung durch (gerichtete Graphen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77" name="Picture 3" descr=""/>
          <p:cNvPicPr/>
          <p:nvPr/>
        </p:nvPicPr>
        <p:blipFill>
          <a:blip r:embed="rId1"/>
          <a:stretch/>
        </p:blipFill>
        <p:spPr>
          <a:xfrm>
            <a:off x="1422360" y="5334120"/>
            <a:ext cx="11215800" cy="965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20FE-7161-4AC2-ACAA-6AD02FA2528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1D7F-8D33-4C15-917E-F193FE3528C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lgemeines zu RDF</a:t>
            </a:r>
            <a:br>
              <a:rPr sz="6200"/>
            </a:b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“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source Description Framework”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3C Recommendation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</a:t>
            </a:r>
            <a:r>
              <a:rPr b="0" lang="en-US" sz="42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www.w3.org/RDF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 ist ein 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rsprünglich: zur Angabe von Metadaten für Web-Ressourcen, später allgemeine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odiert strukturierte Informationen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niverselles, maschinenlesbares Austauschforma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8T09:38:23Z</dcterms:created>
  <dc:creator/>
  <dc:description/>
  <cp:keywords/>
  <dc:language>en-US</dc:language>
  <cp:lastModifiedBy>Sebastian Rudolph</cp:lastModifiedBy>
  <dcterms:modified xsi:type="dcterms:W3CDTF">2009-10-28T10:04:52Z</dcterms:modified>
  <cp:revision>12</cp:revision>
  <dc:subject/>
  <dc:title>Grundlagen Semantic Web</dc:title>
</cp:coreProperties>
</file>